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901-C26E-4192-AB51-B193D37A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2C2-3889-43BD-9880-47CF1AF8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418-BFE6-4236-820A-E114732E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1C02-DEFB-4C79-A55C-39E37404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50C33-98EF-48FC-B34F-FF8DD7C9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9E7DC-DD8A-4021-869C-68426B4F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3F164-BB16-4CB8-96D2-9C639628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EDA87-53AA-42C3-B746-2ECC376E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B0395-6CDC-4DF7-97E0-F8D8AD9B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EBCD6-F7E4-4575-A510-68DC74E9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FA5FB-DB08-4E73-BD11-13B86F08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745C-3B64-480B-BBED-4FBDA968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835E6-FADC-4FB2-9E8F-0F09AA64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8EEE2-FCE2-4F60-90CF-445ECBAF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F7C3B-18B7-4393-8D66-E0323190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FB85C-EDF3-40B1-B9CE-2EB7AB25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54C0A-50B2-4253-AF83-94AE2B9A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BD74A-696C-4030-B7D6-89DD3921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99D15-70CF-4748-AD3A-0DEDBDFD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7E4FB-9C9A-4B2B-9BF2-24ACDF9A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6EBAA-41AD-4EE4-B045-837B8384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8DE8-3865-43CA-8052-9AB8269A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1287-CB41-4A3B-B75B-386F4CD1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E59BC-EA7A-4AB2-9C8A-92D28C52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5999C-6660-4302-9175-7640FF48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9AF7D-E3D0-491B-A439-914BB724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25811-7C9D-4AD2-9C92-61FA26AF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2F214-65CC-4C59-A124-DE1E1D00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090FE-3986-4EDE-BFF1-7FEC234C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44AF2-95FF-419A-AE82-92D62D63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831B83-3839-4CC6-8104-FD67B82D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5EFB6F-A9B4-4E69-94AE-AD32FAB3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1E3D0C-566B-43EF-A2E1-60287877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D7D-25C4-4C1D-9E9D-446987E8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709283-4D2D-4B9E-B843-BC21A10C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99399E-DA35-403E-BCF0-14580DAC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7639EE-54E6-4584-831F-CE8E469C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26CC0B-060F-4578-A2EC-2E1F210A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35AB7E-44CE-45F2-BBBF-1588E372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BCAE05-ED8A-473B-ACDD-1677E85C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310C53-9FF0-4C00-ABBC-76505850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E40561-29F3-4375-8403-D3562A40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977E48-BDD8-4C84-97B5-4CC8CFA6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F9A71A-204F-4590-9E8D-C7ADF5D1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87C-072C-4890-A6E8-C6D84E60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0FB65-54A7-4DD2-B2AB-88F33C90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B205CD-BEA3-4EE7-80D3-2DB1ABC8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F6EDD6-9AA6-41BB-B9A1-309B2BBE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0EE35-ACB3-4B92-B075-687E2D45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273C4-C8AE-4885-9851-BE0A32CA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B50D14-0604-4243-BCCB-508B7FC0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6DE275-2AC8-49DF-B4D3-D3A97159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620BC-8E35-48D3-A5FA-73D19C17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86C7F-3548-4021-864C-2F71EA1F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DBEA1-91B1-44A5-8198-87007F04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919-D4AD-40C2-9BED-B5603FB4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6C4984-E5AE-4715-A81B-1CBED294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B56DC8-ECC7-4317-869E-51DFF946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C9B0B8-74FD-476A-A0B0-227C68F5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DC1A4C-2F55-491B-89A3-12ACA3B2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9C0932-86F3-432A-B695-EABF601A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84F698-1787-4C0B-B830-4AF183D2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ECC6E6-9D9D-4B25-B095-BDDE94AA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5BBBEA-7143-4439-A3FD-7946479F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BEAAA6-8255-4680-B39C-E26E351C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F4CE5B-5F63-479A-8AEA-01242C91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0C0B-5705-461F-950A-5E839390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3528F3-C8E9-4220-BAEA-58EB8BE7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1D371-2F43-490A-9811-E68063C7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2B40A5-9E95-43D4-91BB-001D7549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8B9-04CC-4E8A-8AB5-1641E257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092A-99EA-4BF5-95FC-2AABD1B2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9D8D-EE2A-46F6-8531-0B4A55D9FEE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255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6138-32BC-4938-A619-7D83E50FE98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017C-6DB4-4966-86F8-4B568F6D6FA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899C-03C7-4A68-A388-B77B1DAD987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3B90-5779-401B-8F1A-9A5A1582425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7993-A1CE-4399-B28A-E87637B1939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&#1083;&#1102;&#1073;&#1086;&#1074;&#1100;%20&#1040;&#1089;&#1080;.doc" TargetMode="External"/><Relationship Id="rId3" Type="http://schemas.openxmlformats.org/officeDocument/2006/relationships/hyperlink" Target="file:///../&#1083;&#1102;&#1073;&#1086;&#1074;&#1100;%20&#1040;&#1089;&#1080;.doc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&#1083;&#1102;&#1073;&#1086;&#1074;&#1100;%20&#1085;.doc" TargetMode="External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00720" y="4000320"/>
            <a:ext cx="433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entury Gothic"/>
              </a:rPr>
              <a:t>Выполнила ученица 8 «г» класса Малыгина Аня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566640" y="920880"/>
            <a:ext cx="8315280" cy="199368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i.jpg"/>
          <p:cNvPicPr/>
          <p:nvPr/>
        </p:nvPicPr>
        <p:blipFill>
          <a:blip r:embed="rId3"/>
          <a:stretch/>
        </p:blipFill>
        <p:spPr>
          <a:xfrm>
            <a:off x="1214280" y="3071880"/>
            <a:ext cx="3000600" cy="3357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a1d"/>
                </a:solidFill>
                <a:latin typeface="Century Gothic"/>
              </a:rPr>
              <a:t>Герой упустил свой шанс. Об этом ему скажет Ася в прощальной записке. Достаточно хорошо узнав Н, Гагин и его сестра решили уехать, не дождавшись ответа. Они понимали, что господин Н еще не созрел для такого важного решения, и по прошествии времени он будет жалеть о нем. Так и получилось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5" name="Заголовок 2" descr=""/>
          <p:cNvPicPr/>
          <p:nvPr/>
        </p:nvPicPr>
        <p:blipFill>
          <a:blip r:embed="rId2"/>
          <a:stretch/>
        </p:blipFill>
        <p:spPr>
          <a:xfrm>
            <a:off x="255600" y="19080"/>
            <a:ext cx="843768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a1d"/>
                </a:solidFill>
                <a:latin typeface="Century Gothic"/>
              </a:rPr>
              <a:t>http://files.school-collection.edu.ru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a1d"/>
                </a:solidFill>
                <a:uFillTx/>
                <a:latin typeface="Century Gothic"/>
              </a:rPr>
              <a:t>http://answers.mail.ru/question/37655517/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a1d"/>
                </a:solidFill>
                <a:uFillTx/>
                <a:latin typeface="Century Gothic"/>
              </a:rPr>
              <a:t>http://www.litra.ru/characters/get/chid/00701321190831417112/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a1d"/>
                </a:solidFill>
                <a:uFillTx/>
                <a:latin typeface="Century Gothic"/>
              </a:rPr>
              <a:t>http://otvet.mail.ru/question/2286669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7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2340000" y="1523880"/>
            <a:ext cx="634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Century Gothic"/>
              </a:rPr>
              <a:t>Любовь</a:t>
            </a:r>
            <a:r>
              <a:rPr b="0" lang="en-US" sz="1600" spc="-1" strike="noStrike">
                <a:solidFill>
                  <a:srgbClr val="660033"/>
                </a:solidFill>
                <a:latin typeface="Century Gothic"/>
              </a:rPr>
              <a:t> — чувство, свойственное человеку, глубокая, самоотверженная и интимная привязанность к другому человеку или объекту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33"/>
                </a:solidFill>
                <a:latin typeface="Century Gothic"/>
              </a:rPr>
              <a:t>Способность к любви у высших животных может проявляться в форме привязанности, сложных взаимоотношений социального типа внутри группы, но в полной мере она спорна и пока не подтвержден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33"/>
                </a:solidFill>
                <a:latin typeface="Century Gothic"/>
              </a:rPr>
              <a:t>Любовь — одна из фундаментальных и общих тем в мировой культуре и искусстве. Рассуждения о любви и её анализ как явления восходят к древнейшим философским системам и литературным памятникам, известным человеку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33"/>
                </a:solidFill>
                <a:latin typeface="Century Gothic"/>
              </a:rPr>
              <a:t>Любовь рассматривается также как философская категория, в виде субъектного отношения, интимного избирательного чувства, направленного на предмет любви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6" name="Заголовок 2" descr=""/>
          <p:cNvPicPr/>
          <p:nvPr/>
        </p:nvPicPr>
        <p:blipFill>
          <a:blip r:embed="rId2"/>
          <a:stretch/>
        </p:blipFill>
        <p:spPr>
          <a:xfrm>
            <a:off x="633240" y="208080"/>
            <a:ext cx="857736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d3dc"/>
                </a:solidFill>
                <a:latin typeface="Century Gothic"/>
              </a:rPr>
              <a:t>Что лежит в основе повести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d3dc"/>
                </a:solidFill>
                <a:latin typeface="Century Gothic"/>
              </a:rPr>
              <a:t>Что значит любовь для Аси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d3dc"/>
                </a:solidFill>
                <a:latin typeface="Century Gothic"/>
              </a:rPr>
              <a:t>Какова любовь господина Н.Н.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d3dc"/>
                </a:solidFill>
                <a:latin typeface="Century Gothic"/>
              </a:rPr>
              <a:t>Почему, господин Н.Н.боится признаться Асе в своих чувствах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d3dc"/>
                </a:solidFill>
                <a:latin typeface="Century Gothic"/>
              </a:rPr>
              <a:t>Почему герои расстаются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8" name="Заголовок 2" descr=""/>
          <p:cNvPicPr/>
          <p:nvPr/>
        </p:nvPicPr>
        <p:blipFill>
          <a:blip r:embed="rId2"/>
          <a:stretch/>
        </p:blipFill>
        <p:spPr>
          <a:xfrm>
            <a:off x="255600" y="19080"/>
            <a:ext cx="843768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28760" y="1357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entury Gothic"/>
              </a:rPr>
              <a:t>Повесть Ивана Сергеевича Тургенева «Ася» – произведение о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Century Gothic"/>
              </a:rPr>
              <a:t>любви, которая по мнению писателя, «сильнее смерти и страха смерти» и которой «держится и движется жизнь». Тургенев был убеждён, что любовь сопряжена с наивысшим подъёмом чувств. Изображение любви было для него важным творческим приёмом: сразу обнаруживалось, есть ли у героя «натура», то есть богатство духовной жизни, сила характера, или нет её и вместо неё «одна голова». Познакомимся ещё с одной точкой зрения на смысл любовного сюжета в повести, высказанной литературоведом Г. А. Бялым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entury Gothic"/>
              </a:rPr>
              <a:t>«Любовь представлялась писателю стихийной и бессознательной силой, перед властью которой человек беззащитен. Именно такой предстаёт любовь в повести «Ася»: она проявляется как стихийная сила, овладеть которой, «подчинить её себе и заставить служить своему счастью человек не может…»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0" name="Заголовок 2" descr=""/>
          <p:cNvPicPr/>
          <p:nvPr/>
        </p:nvPicPr>
        <p:blipFill>
          <a:blip r:embed="rId2"/>
          <a:stretch/>
        </p:blipFill>
        <p:spPr>
          <a:xfrm>
            <a:off x="237960" y="-19080"/>
            <a:ext cx="845532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Содержимое 3" descr="оо.jpg"/>
          <p:cNvPicPr/>
          <p:nvPr/>
        </p:nvPicPr>
        <p:blipFill>
          <a:blip r:embed="rId2"/>
          <a:stretch/>
        </p:blipFill>
        <p:spPr>
          <a:xfrm>
            <a:off x="4500720" y="1428840"/>
            <a:ext cx="4071960" cy="471492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13" descr=""/>
          <p:cNvPicPr/>
          <p:nvPr/>
        </p:nvPicPr>
        <p:blipFill>
          <a:blip r:embed="rId3"/>
          <a:stretch/>
        </p:blipFill>
        <p:spPr>
          <a:xfrm>
            <a:off x="208080" y="146160"/>
            <a:ext cx="8485200" cy="123192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[LI8RK_7-03]_[IL_01]-k.jpg"/>
          <p:cNvPicPr/>
          <p:nvPr/>
        </p:nvPicPr>
        <p:blipFill>
          <a:blip r:embed="rId4"/>
          <a:stretch/>
        </p:blipFill>
        <p:spPr>
          <a:xfrm>
            <a:off x="714240" y="1500120"/>
            <a:ext cx="364356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8e58b6"/>
                </a:solidFill>
                <a:uFillTx/>
                <a:latin typeface="Century Gothic"/>
                <a:hlinkClick r:id="rId2"/>
              </a:rPr>
              <a:t>..\любовь Аси.</a:t>
            </a:r>
            <a:r>
              <a:rPr b="0" lang="en-US" sz="2600" spc="-1" strike="noStrike" u="sng">
                <a:solidFill>
                  <a:srgbClr val="8e58b6"/>
                </a:solidFill>
                <a:uFillTx/>
                <a:latin typeface="Century Gothic"/>
                <a:hlinkClick r:id="rId3"/>
              </a:rPr>
              <a:t>doc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5" name="Заголовок 2" descr=""/>
          <p:cNvPicPr/>
          <p:nvPr/>
        </p:nvPicPr>
        <p:blipFill>
          <a:blip r:embed="rId4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3" descr="[LI8RK_7-02]_[IL_01]-k.jpg"/>
          <p:cNvPicPr/>
          <p:nvPr/>
        </p:nvPicPr>
        <p:blipFill>
          <a:blip r:embed="rId5"/>
          <a:stretch/>
        </p:blipFill>
        <p:spPr>
          <a:xfrm>
            <a:off x="4643280" y="1428840"/>
            <a:ext cx="35719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6840" y="1285560"/>
            <a:ext cx="390060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2060"/>
                </a:solidFill>
                <a:latin typeface="Century Gothic"/>
              </a:rPr>
              <a:t>  </a:t>
            </a:r>
            <a:r>
              <a:rPr b="0" i="1" lang="en-US" sz="2600" spc="-1" strike="noStrike">
                <a:solidFill>
                  <a:srgbClr val="002060"/>
                </a:solidFill>
                <a:latin typeface="Century Gothic"/>
              </a:rPr>
              <a:t>Любовь для неё превыше всего. Любовь окрыляет героиню, придает ей новые силы, внушает веру в жизнь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6840" y="1523880"/>
            <a:ext cx="4543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8e58b6"/>
                </a:solidFill>
                <a:uFillTx/>
                <a:latin typeface="Century Gothic"/>
                <a:hlinkClick r:id="rId2"/>
              </a:rPr>
              <a:t>..\любовь н.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oc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c354d"/>
                </a:solidFill>
                <a:latin typeface="Century Gothic"/>
              </a:rPr>
              <a:t>«Любовь ее меня и радовала и смущала... Неизбежность скорого, почти мгновенного решения терзала меня...»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0" name="Заголовок 2" descr=""/>
          <p:cNvPicPr/>
          <p:nvPr/>
        </p:nvPicPr>
        <p:blipFill>
          <a:blip r:embed="rId3"/>
          <a:stretch/>
        </p:blipFill>
        <p:spPr>
          <a:xfrm>
            <a:off x="255600" y="146160"/>
            <a:ext cx="8437680" cy="12319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3" descr="[LI8RK_7-02]_[IL_02]-k.jpg"/>
          <p:cNvPicPr/>
          <p:nvPr/>
        </p:nvPicPr>
        <p:blipFill>
          <a:blip r:embed="rId4"/>
          <a:stretch/>
        </p:blipFill>
        <p:spPr>
          <a:xfrm>
            <a:off x="5286240" y="1571760"/>
            <a:ext cx="307188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500040" y="264276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a1d"/>
                </a:solidFill>
                <a:latin typeface="Century Gothic"/>
              </a:rPr>
              <a:t>Он приходит к заключению: «Жениться на семнадцатилетней девушке, с ее нравом как это можно!» Верящий в то, что будущее бесконечно он не собирается решать судьбу сейчас. Он отталкивает Асю, которая по его мнению, обогнала естественный ход событий, скорее всего не приведший бы к счастливому концу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3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43:48Z</dcterms:created>
  <dc:creator>владелец</dc:creator>
  <dc:description/>
  <dc:language>en-US</dc:language>
  <cp:lastModifiedBy>студент</cp:lastModifiedBy>
  <dcterms:modified xsi:type="dcterms:W3CDTF">2010-04-28T08:12:27Z</dcterms:modified>
  <cp:revision>17</cp:revision>
  <dc:subject/>
  <dc:title>История любви Аси и господина Н.Н.</dc:title>
</cp:coreProperties>
</file>